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EEBB-849C-4C07-ABA3-B463772B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3B81-DFCD-4BD5-91ED-21ACBD8B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0424-8D3F-4338-AD37-36B7E9E4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81AD-3B90-4D16-8F53-D36656BD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C4CB-D231-4F51-910C-CDCEC6B9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A7FF-0674-45F5-ADE7-1FCE7155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C657-B084-4C4C-9D9C-59B85857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EA91-4775-4A40-BA9B-0A880A19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B368-D457-440F-9EAA-A18AE3D0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6CDB-FA0C-408C-9181-2C5D54C1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DAA7-7DF7-4650-85F9-7BCA4291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DDF8-EED2-4CA2-BA66-822E805D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FFC8-71D9-41BE-B4E0-DDD875410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Growth of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Territorial Expan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3"/>
          <p:cNvGrpSpPr/>
          <p:nvPr/>
        </p:nvGrpSpPr>
        <p:grpSpPr>
          <a:xfrm>
            <a:off x="3886200" y="3048120"/>
            <a:ext cx="5029200" cy="3608280"/>
            <a:chOff x="3886200" y="3048120"/>
            <a:chExt cx="5029200" cy="3608280"/>
          </a:xfrm>
        </p:grpSpPr>
        <p:pic>
          <p:nvPicPr>
            <p:cNvPr id="45" name="Picture 4" descr="map1"/>
            <p:cNvPicPr/>
            <p:nvPr/>
          </p:nvPicPr>
          <p:blipFill>
            <a:blip r:embed="rId1"/>
            <a:stretch/>
          </p:blipFill>
          <p:spPr>
            <a:xfrm>
              <a:off x="3886200" y="3048120"/>
              <a:ext cx="5029200" cy="36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5"/>
            <p:cNvSpPr/>
            <p:nvPr/>
          </p:nvSpPr>
          <p:spPr>
            <a:xfrm>
              <a:off x="8001000" y="3962520"/>
              <a:ext cx="380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FrutigerBold"/>
                </a:rPr>
                <a:t>A</a:t>
              </a:r>
              <a:endParaRPr b="1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47" name="Text Box 6"/>
          <p:cNvSpPr/>
          <p:nvPr/>
        </p:nvSpPr>
        <p:spPr>
          <a:xfrm>
            <a:off x="1447920" y="1143000"/>
            <a:ext cx="19810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When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447920" y="2057400"/>
            <a:ext cx="22096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From Where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447920" y="3048120"/>
            <a:ext cx="17524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Why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828800" y="1600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1776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36576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828800" y="25146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Great Britain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1447920" y="3657600"/>
            <a:ext cx="213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US declared independence from Great Britain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5181480" y="13716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A - 13 Original Colonie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map2"/>
          <p:cNvPicPr/>
          <p:nvPr/>
        </p:nvPicPr>
        <p:blipFill>
          <a:blip r:embed="rId1"/>
          <a:stretch/>
        </p:blipFill>
        <p:spPr>
          <a:xfrm>
            <a:off x="3884760" y="3043080"/>
            <a:ext cx="5030640" cy="36100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Territorial Expan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8001000" y="396252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FrutigerBold"/>
              </a:rPr>
              <a:t>A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447920" y="1143000"/>
            <a:ext cx="1981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When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447920" y="2057400"/>
            <a:ext cx="22096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From Where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1447920" y="3048120"/>
            <a:ext cx="17524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Why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1828800" y="1600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1783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36576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1828800" y="2514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Great Britain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1219320" y="358128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Gained in Treaty of Paris (ended Revolutionary War)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7238880" y="441972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B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5181480" y="1371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B - Western Land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map35"/>
          <p:cNvPicPr/>
          <p:nvPr/>
        </p:nvPicPr>
        <p:blipFill>
          <a:blip r:embed="rId1"/>
          <a:stretch/>
        </p:blipFill>
        <p:spPr>
          <a:xfrm>
            <a:off x="3886200" y="3048120"/>
            <a:ext cx="5029200" cy="36082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Territorial Expan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8001000" y="396252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FrutigerBold"/>
              </a:rPr>
              <a:t>A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447920" y="1143000"/>
            <a:ext cx="1981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When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447920" y="2057400"/>
            <a:ext cx="22096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From Where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1447920" y="3048120"/>
            <a:ext cx="17524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Why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828800" y="1600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1803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36576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1828800" y="2514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France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990720" y="3581280"/>
            <a:ext cx="2971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Jefferson wanted to buy New Orlean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Napoleon needed $$$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He got all of this instead! 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7238880" y="441972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B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5181480" y="13716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C - Louisiana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Purchase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6095880" y="419112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FrutigerBold"/>
              </a:rPr>
              <a:t>C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map4"/>
          <p:cNvPicPr/>
          <p:nvPr/>
        </p:nvPicPr>
        <p:blipFill>
          <a:blip r:embed="rId1"/>
          <a:stretch/>
        </p:blipFill>
        <p:spPr>
          <a:xfrm>
            <a:off x="3884760" y="3043080"/>
            <a:ext cx="5030640" cy="3610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Territorial Expan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8001000" y="396252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FrutigerBold"/>
              </a:rPr>
              <a:t>A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447920" y="1143000"/>
            <a:ext cx="1981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When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447920" y="2057400"/>
            <a:ext cx="22096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From Where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447920" y="3048120"/>
            <a:ext cx="17524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Why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828800" y="1600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1819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6576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1828800" y="2514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Spain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828800" y="3581280"/>
            <a:ext cx="2133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Andrew Jackson invaded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Spain then sold it to us for $5 million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7238880" y="441972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B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5181480" y="1371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D - Florida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8763120" y="56386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FrutigerBold"/>
              </a:rPr>
              <a:t>D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Line 15"/>
          <p:cNvSpPr/>
          <p:nvPr/>
        </p:nvSpPr>
        <p:spPr>
          <a:xfrm flipH="1">
            <a:off x="8381520" y="5867280"/>
            <a:ext cx="381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6095880" y="419112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FrutigerBold"/>
              </a:rPr>
              <a:t>C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map5"/>
          <p:cNvPicPr/>
          <p:nvPr/>
        </p:nvPicPr>
        <p:blipFill>
          <a:blip r:embed="rId1"/>
          <a:stretch/>
        </p:blipFill>
        <p:spPr>
          <a:xfrm>
            <a:off x="3884760" y="3043080"/>
            <a:ext cx="5030640" cy="36100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Territorial Expan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001000" y="396252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FrutigerBold"/>
              </a:rPr>
              <a:t>A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838080" y="1143000"/>
            <a:ext cx="19814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When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990720" y="2057400"/>
            <a:ext cx="22096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From Where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838080" y="3033720"/>
            <a:ext cx="17528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Why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1219320" y="1593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FrutigerBold"/>
              </a:rPr>
              <a:t>1845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6576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219320" y="25146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Republic of Texas (Independent Country)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1066680" y="3581280"/>
            <a:ext cx="28958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Texas independent from Mexico in 1836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Northerners feared it would become a slave state 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7238880" y="441972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B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5181480" y="1371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FrutigerBold"/>
              </a:rPr>
              <a:t>E - Texa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8763120" y="56386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FrutigerBold"/>
              </a:rPr>
              <a:t>D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 flipH="1">
            <a:off x="8381520" y="5867280"/>
            <a:ext cx="381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6095880" y="419112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FrutigerBold"/>
              </a:rPr>
              <a:t>C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6095880" y="541008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FrutigerBold"/>
              </a:rPr>
              <a:t>E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nking Ques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0000"/>
                </a:solidFill>
                <a:latin typeface="Arial"/>
              </a:rPr>
              <a:t>Why weren</a:t>
            </a:r>
            <a:r>
              <a:rPr b="1" lang="ja-JP" sz="3900" spc="-1" strike="noStrike">
                <a:solidFill>
                  <a:srgbClr val="cc0000"/>
                </a:solidFill>
                <a:latin typeface="Arial"/>
              </a:rPr>
              <a:t>’</a:t>
            </a:r>
            <a:r>
              <a:rPr b="1" lang="en-US" sz="3900" spc="-1" strike="noStrike">
                <a:solidFill>
                  <a:srgbClr val="cc0000"/>
                </a:solidFill>
                <a:latin typeface="Arial"/>
              </a:rPr>
              <a:t>t Americans happy with the size of their country at this point in their history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map6"/>
          <p:cNvPicPr/>
          <p:nvPr/>
        </p:nvPicPr>
        <p:blipFill>
          <a:blip r:embed="rId1"/>
          <a:stretch/>
        </p:blipFill>
        <p:spPr>
          <a:xfrm>
            <a:off x="3884760" y="3043080"/>
            <a:ext cx="5030640" cy="36100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Territorial Expan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001000" y="396252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FrutigerBold"/>
              </a:rPr>
              <a:t>A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447920" y="1143000"/>
            <a:ext cx="1981080" cy="459720"/>
          </a:xfrm>
          <a:prstGeom prst="rect">
            <a:avLst/>
          </a:prstGeom>
          <a:solidFill>
            <a:srgbClr val="0083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utigerBold"/>
              </a:rPr>
              <a:t>When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1447920" y="2057400"/>
            <a:ext cx="2209680" cy="459720"/>
          </a:xfrm>
          <a:prstGeom prst="rect">
            <a:avLst/>
          </a:prstGeom>
          <a:solidFill>
            <a:srgbClr val="0083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utigerBold"/>
              </a:rPr>
              <a:t>From Where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447920" y="3048120"/>
            <a:ext cx="1752480" cy="459720"/>
          </a:xfrm>
          <a:prstGeom prst="rect">
            <a:avLst/>
          </a:prstGeom>
          <a:solidFill>
            <a:srgbClr val="0083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utigerBold"/>
              </a:rPr>
              <a:t>Why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1828800" y="16002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FrutigerBold"/>
              </a:rPr>
              <a:t>1846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6576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824120" y="25146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FrutigerBold"/>
              </a:rPr>
              <a:t>Great Britain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990720" y="3581280"/>
            <a:ext cx="304776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FrutigerBold"/>
              </a:rPr>
              <a:t>Claimed by four countries (G. Britain, Russia, Spain, &amp; US)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FrutigerBold"/>
              </a:rPr>
              <a:t>Americans demanded </a:t>
            </a:r>
            <a:r>
              <a:rPr b="1" lang="ja-JP" sz="2400" spc="-1" strike="noStrike">
                <a:solidFill>
                  <a:srgbClr val="c00000"/>
                </a:solidFill>
                <a:latin typeface="FrutigerBold"/>
              </a:rPr>
              <a:t>“</a:t>
            </a:r>
            <a:r>
              <a:rPr b="1" lang="en-US" sz="2400" spc="-1" strike="noStrike">
                <a:solidFill>
                  <a:srgbClr val="c00000"/>
                </a:solidFill>
                <a:latin typeface="FrutigerBold"/>
              </a:rPr>
              <a:t>54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°</a:t>
            </a:r>
            <a:r>
              <a:rPr b="1" lang="en-US" sz="2400" spc="-1" strike="noStrike">
                <a:solidFill>
                  <a:srgbClr val="c00000"/>
                </a:solidFill>
                <a:latin typeface="FrutigerBold"/>
              </a:rPr>
              <a:t> 40</a:t>
            </a:r>
            <a:r>
              <a:rPr b="1" lang="ja-JP" sz="2400" spc="-1" strike="noStrike">
                <a:solidFill>
                  <a:srgbClr val="c00000"/>
                </a:solidFill>
                <a:latin typeface="FrutigerBold"/>
              </a:rPr>
              <a:t>’</a:t>
            </a:r>
            <a:r>
              <a:rPr b="1" lang="en-US" sz="2400" spc="-1" strike="noStrike">
                <a:solidFill>
                  <a:srgbClr val="c00000"/>
                </a:solidFill>
                <a:latin typeface="FrutigerBold"/>
              </a:rPr>
              <a:t> or fight!</a:t>
            </a:r>
            <a:r>
              <a:rPr b="1" lang="ja-JP" sz="2400" spc="-1" strike="noStrike">
                <a:solidFill>
                  <a:srgbClr val="c00000"/>
                </a:solidFill>
                <a:latin typeface="FrutigerBold"/>
              </a:rPr>
              <a:t>”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FrutigerBold"/>
              </a:rPr>
              <a:t>Britain compromised 49</a:t>
            </a: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°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c00000"/>
                </a:solidFill>
                <a:latin typeface="FrutigerBold"/>
              </a:rPr>
              <a:t>&amp; US accepted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7238880" y="441972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B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5181480" y="1371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38c"/>
                </a:solidFill>
                <a:latin typeface="FrutigerBold"/>
              </a:rPr>
              <a:t>F - Oregon Territory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8763120" y="56386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FrutigerBold"/>
              </a:rPr>
              <a:t>D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8381520" y="5867280"/>
            <a:ext cx="381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6095880" y="419112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FrutigerBold"/>
              </a:rPr>
              <a:t>C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6095880" y="541008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FrutigerBold"/>
              </a:rPr>
              <a:t>E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419720" y="36576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38c"/>
                </a:solidFill>
                <a:latin typeface="FrutigerBold"/>
              </a:rPr>
              <a:t>F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map7"/>
          <p:cNvPicPr/>
          <p:nvPr/>
        </p:nvPicPr>
        <p:blipFill>
          <a:blip r:embed="rId1"/>
          <a:stretch/>
        </p:blipFill>
        <p:spPr>
          <a:xfrm>
            <a:off x="4113360" y="2843280"/>
            <a:ext cx="5030640" cy="36082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Territorial Expan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8191440" y="396252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FrutigerBold"/>
              </a:rPr>
              <a:t>A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43080" y="1143000"/>
            <a:ext cx="1981080" cy="459720"/>
          </a:xfrm>
          <a:prstGeom prst="rect">
            <a:avLst/>
          </a:prstGeom>
          <a:solidFill>
            <a:srgbClr val="b26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utigerBold"/>
              </a:rPr>
              <a:t>When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84040" y="2073240"/>
            <a:ext cx="2210040" cy="459720"/>
          </a:xfrm>
          <a:prstGeom prst="rect">
            <a:avLst/>
          </a:prstGeom>
          <a:solidFill>
            <a:srgbClr val="b26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utigerBold"/>
              </a:rPr>
              <a:t>From Where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324000" y="3059280"/>
            <a:ext cx="1752480" cy="459720"/>
          </a:xfrm>
          <a:prstGeom prst="rect">
            <a:avLst/>
          </a:prstGeom>
          <a:solidFill>
            <a:srgbClr val="b26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utigerBold"/>
              </a:rPr>
              <a:t>Why?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512640" y="160956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FrutigerBold"/>
              </a:rPr>
              <a:t>1848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657600" y="21337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512640" y="25146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FrutigerBold"/>
              </a:rPr>
              <a:t>Mexico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228600" y="3524400"/>
            <a:ext cx="40384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FrutigerBold"/>
              </a:rPr>
              <a:t>Polk offers to buy G from Mexico &amp; they refuse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FrutigerBold"/>
              </a:rPr>
              <a:t>War!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FrutigerBold"/>
              </a:rPr>
              <a:t>US wins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00000"/>
              </a:buClr>
              <a:buFont typeface="Frutiger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FrutigerBold"/>
              </a:rPr>
              <a:t>In Treaty of Guadalupe Hidalgo, US offers $15 million for G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7389720" y="417528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utigerBold"/>
              </a:rPr>
              <a:t>B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5181480" y="1371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6684"/>
                </a:solidFill>
                <a:latin typeface="FrutigerBold"/>
              </a:rPr>
              <a:t>G - Mexican Cession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8763120" y="520056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FrutigerBold"/>
              </a:rPr>
              <a:t>D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 flipH="1">
            <a:off x="8458200" y="5483160"/>
            <a:ext cx="38088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6323040" y="41148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FrutigerBold"/>
              </a:rPr>
              <a:t>C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6033960" y="4995720"/>
            <a:ext cx="289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FrutigerBold"/>
              </a:rPr>
              <a:t>E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4610160" y="34290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38c"/>
                </a:solidFill>
                <a:latin typeface="FrutigerBold"/>
              </a:rPr>
              <a:t>F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4724280" y="437832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6684"/>
                </a:solidFill>
                <a:latin typeface="FrutigerBold"/>
              </a:rPr>
              <a:t>G</a:t>
            </a:r>
            <a:endParaRPr b="1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12:32:20Z</dcterms:created>
  <dc:creator>Staff</dc:creator>
  <dc:description/>
  <dc:language>en-US</dc:language>
  <cp:lastModifiedBy>Eagle Schools</cp:lastModifiedBy>
  <dcterms:modified xsi:type="dcterms:W3CDTF">2014-02-04T21:13:28Z</dcterms:modified>
  <cp:revision>7</cp:revision>
  <dc:subject/>
  <dc:title>Growth of U.S.</dc:title>
</cp:coreProperties>
</file>